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7.gif" ContentType="image/gif"/>
  <Override PartName="/ppt/media/image8.jpeg" ContentType="image/jpeg"/>
  <Override PartName="/ppt/media/image13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07A-FBCA-48EE-B797-18C8AD7D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16D-3305-458A-B4BE-D207FB56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8E4-146D-4B90-8BB3-A2B56A50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976-4AFA-4B1D-9D35-16D61A15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FC0A-B00B-4BC4-A685-1FB82DC5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F180-7387-4D9B-92A9-95709158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23C5-6196-4238-B6D6-DB8FBBBA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11CA-2295-451C-9958-4218892E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006A-7D75-4EB7-B511-F09B8225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801D-2593-4CC6-8C94-7169FE91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3B23-7B4C-4AAF-B123-697063DD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307-24F8-4F39-B06D-E045B13C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31BF-ACD7-44A5-9C99-81DF71AC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B493-FBB8-4078-9F1D-81131AAC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6F84-E5BF-4FC2-A99E-EEDB090D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BF82-7678-4BAE-B0E0-C35E04FB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9E46-B073-47B8-9610-3CDE6099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0E0-B275-414B-9025-B064C3CD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CBB-D1D7-4A39-80C0-67490B69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F682-0638-4046-B1BF-5F3C8540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13E-B622-4AEE-A26A-481ECC70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FB5-D8B8-4F4B-A0BC-05D4DDFF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864-4AE6-47F0-96A9-FDF5DB61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D0B8-A9D6-4B12-BF67-898F3B23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5E60-85CC-485B-8E0E-3905C5A7C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52B3-D00E-45BF-A5DC-8B4F460E82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ЛЮБОВЬ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ОВА: Барсукова 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ТКУДА МЫ ЗНАЕМ ГДЕ СЧАСТЛИВЫ СТАНЕ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 ВЛЮБЛЕННОСТЬ ИГРА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268360" y="2205000"/>
            <a:ext cx="41515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Ы ЛЮБОВЬ УПУСКА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132000" y="2349360"/>
            <a:ext cx="30099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ВЕ РАЗНЫЕ ВЕЩ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382920" cy="3959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37414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ЛЮБОВЬ И ВЛЮБЛЕН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2879640" cy="3600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2840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ЕРВАЯ - ВЕЧ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842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ТОРОЯ - СЕЗОН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192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О ОБЕ ЗАМАНЧИВ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04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БЕ ИГРИВ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4452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О ОБЕ ОБМАНЧИВ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167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БЕ КРАСИВ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7:05:37Z</dcterms:created>
  <dc:creator>Oksana</dc:creator>
  <dc:description/>
  <dc:language>en-US</dc:language>
  <cp:lastModifiedBy>Oksana</cp:lastModifiedBy>
  <dcterms:modified xsi:type="dcterms:W3CDTF">2009-09-11T17:33:54Z</dcterms:modified>
  <cp:revision>2</cp:revision>
  <dc:subject/>
  <dc:title>ЛЮБОВЬ</dc:title>
</cp:coreProperties>
</file>